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80A-5EED-4B2E-890D-EA033564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EBF-81BE-43CE-81D4-BF9E7266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0BD-BC1B-4316-8BC7-15141FA3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EB6-8682-4DD2-B02E-D8A69B10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6C1-E887-4002-BB98-A3B8B1FD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9761-7561-4E5B-9D10-5E23FDE9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4EE-BA5D-4E17-8106-7FA3A5F2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5EE-DCD9-4134-82D1-7DA9B37D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6A0-FA33-4C84-ACA9-854D1AEA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A88-1F5A-46A1-BEA8-1EFA4548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E9B-FADF-493C-8949-AD3450D1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AA6-3493-461D-9A8F-BB32E993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2A5D-B0C9-4DDE-995F-8A5106D64B57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F950-6CD5-48A0-8C3B-3081D06D8D3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Borer Insects of Sugarcan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ife Cyc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80" name="Content Placeholder 3" descr="stem borer.jpg"/>
          <p:cNvPicPr/>
          <p:nvPr/>
        </p:nvPicPr>
        <p:blipFill>
          <a:blip r:embed="rId1"/>
          <a:stretch/>
        </p:blipFill>
        <p:spPr>
          <a:xfrm>
            <a:off x="1523880" y="1523880"/>
            <a:ext cx="6019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-1440" y="6053040"/>
            <a:ext cx="224316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Times New Roman"/>
              </a:rPr>
              <a:t>Root Borer of Sugarcan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.N</a:t>
            </a:r>
            <a:r>
              <a:rPr b="0" i="1" lang="en-US" sz="3200" spc="-1" strike="noStrike">
                <a:solidFill>
                  <a:srgbClr val="ffffff"/>
                </a:solidFill>
                <a:latin typeface="Tw Cen MT"/>
              </a:rPr>
              <a:t>:             Emmalocera depressell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amily:                            Pyralida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Order:                        Lipedopter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-1440" y="6053040"/>
            <a:ext cx="224316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Times New Roman"/>
              </a:rPr>
              <a:t>Identification Character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880" y="21333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Larvae is the creamy white in color with dark brown/black head and wrikled body and also cause the damag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e adults are of brown color and have white hind wings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oot Borer of Sugerc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92" name="Content Placeholder 6" descr="larvae root borer.jpg"/>
          <p:cNvPicPr/>
          <p:nvPr/>
        </p:nvPicPr>
        <p:blipFill>
          <a:blip r:embed="rId1"/>
          <a:stretch/>
        </p:blipFill>
        <p:spPr>
          <a:xfrm>
            <a:off x="685800" y="2514600"/>
            <a:ext cx="327672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7" descr="adult root borer.jpg"/>
          <p:cNvPicPr/>
          <p:nvPr/>
        </p:nvPicPr>
        <p:blipFill>
          <a:blip r:embed="rId2"/>
          <a:stretch/>
        </p:blipFill>
        <p:spPr>
          <a:xfrm>
            <a:off x="5619600" y="3386160"/>
            <a:ext cx="2248200" cy="1685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Larva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Adul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ife Cyc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97" name="Content Placeholder 3" descr="root borer.jpg"/>
          <p:cNvPicPr/>
          <p:nvPr/>
        </p:nvPicPr>
        <p:blipFill>
          <a:blip r:embed="rId1"/>
          <a:stretch/>
        </p:blipFill>
        <p:spPr>
          <a:xfrm>
            <a:off x="1676520" y="1371600"/>
            <a:ext cx="6172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5840" y="160020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75f55"/>
                </a:solidFill>
                <a:latin typeface="Viner Hand ITC"/>
              </a:rPr>
              <a:t>Thanks</a:t>
            </a:r>
            <a:endParaRPr b="0" lang="en-US" sz="96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-1440" y="6053040"/>
            <a:ext cx="224316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Times New Roman"/>
              </a:rPr>
              <a:t>Sugarcane Top Borer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.N</a:t>
            </a:r>
            <a:r>
              <a:rPr b="0" i="1" lang="en-US" sz="3200" spc="-1" strike="noStrike">
                <a:solidFill>
                  <a:srgbClr val="ffffff"/>
                </a:solidFill>
                <a:latin typeface="Tw Cen MT"/>
              </a:rPr>
              <a:t>:               Scirpophaga nivell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amily:                         Pyralida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Order:                     Lipedopter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-1440" y="6053040"/>
            <a:ext cx="224316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Times New Roman"/>
              </a:rPr>
              <a:t>Identification character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7524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Larvae is the Creamy or Yellowish-white in color and cause the damag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Adults are pure white in color and female has a reddish tuft hair at the end of abdomen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Larvae over-winter/hibernate in the tops of canes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p Borer of Sugerc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6" name="Content Placeholder 6" descr="cremy yellowsh larvae.jpg"/>
          <p:cNvPicPr/>
          <p:nvPr/>
        </p:nvPicPr>
        <p:blipFill>
          <a:blip r:embed="rId1"/>
          <a:stretch/>
        </p:blipFill>
        <p:spPr>
          <a:xfrm>
            <a:off x="1371600" y="3262320"/>
            <a:ext cx="2362320" cy="193356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7" descr="adult.jpg"/>
          <p:cNvPicPr/>
          <p:nvPr/>
        </p:nvPicPr>
        <p:blipFill>
          <a:blip r:embed="rId2"/>
          <a:stretch/>
        </p:blipFill>
        <p:spPr>
          <a:xfrm>
            <a:off x="4876920" y="2438280"/>
            <a:ext cx="3733560" cy="3276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Larva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Adul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Fema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1" name="Content Placeholder 3" descr="female red tuft.jpg"/>
          <p:cNvPicPr/>
          <p:nvPr/>
        </p:nvPicPr>
        <p:blipFill>
          <a:blip r:embed="rId1"/>
          <a:stretch/>
        </p:blipFill>
        <p:spPr>
          <a:xfrm>
            <a:off x="1981080" y="1447920"/>
            <a:ext cx="5791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ife Cyc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3" name="Content Placeholder 3" descr="top borer.jpg"/>
          <p:cNvPicPr/>
          <p:nvPr/>
        </p:nvPicPr>
        <p:blipFill>
          <a:blip r:embed="rId1"/>
          <a:stretch/>
        </p:blipFill>
        <p:spPr>
          <a:xfrm>
            <a:off x="1295280" y="1371600"/>
            <a:ext cx="6705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-1440" y="6053040"/>
            <a:ext cx="224316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Times New Roman"/>
              </a:rPr>
              <a:t>Stem Borer of Sugarcan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.N: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w Cen MT"/>
              </a:rPr>
              <a:t>Chilo infuscatellu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amily:                      Pyralida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Order:                   Lipedopter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-1440" y="6053040"/>
            <a:ext cx="224316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Times New Roman"/>
              </a:rPr>
              <a:t>Identification Character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47920" y="17521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Larvae is the dirty white in color having 5 doted black longitudinal stripes on the body and cause the damag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Adults have forewings of straw color and hind wings whitish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Larvae over-winter in the stubles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m Borer of Sugerc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75" name="Content Placeholder 6" descr="stem larvae.jpg"/>
          <p:cNvPicPr/>
          <p:nvPr/>
        </p:nvPicPr>
        <p:blipFill>
          <a:blip r:embed="rId1"/>
          <a:stretch/>
        </p:blipFill>
        <p:spPr>
          <a:xfrm>
            <a:off x="457200" y="2514600"/>
            <a:ext cx="3809880" cy="35053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7" descr="adult stem borer.png"/>
          <p:cNvPicPr/>
          <p:nvPr/>
        </p:nvPicPr>
        <p:blipFill>
          <a:blip r:embed="rId2"/>
          <a:stretch/>
        </p:blipFill>
        <p:spPr>
          <a:xfrm>
            <a:off x="5602320" y="3251160"/>
            <a:ext cx="2627280" cy="2006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Larva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Adul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21:51:00Z</dcterms:created>
  <dc:creator>Aqeel Haider</dc:creator>
  <dc:description/>
  <cp:keywords/>
  <dc:language>en-US</dc:language>
  <cp:lastModifiedBy>Dr Sajjad</cp:lastModifiedBy>
  <dcterms:modified xsi:type="dcterms:W3CDTF">2016-12-19T10:10:20Z</dcterms:modified>
  <cp:revision>8</cp:revision>
  <dc:subject/>
  <dc:title>Sugercane Top Bor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56</vt:lpwstr>
  </property>
</Properties>
</file>